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E210-88F4-4B49-BABF-36D6E0CE709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4FC-A86E-4372-B82F-843442C352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F2AE-AEB7-4F2F-ADA6-EB6B59B49A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9FCA-64BC-40AA-A27E-F2DD86E104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2A9B-901F-48DC-B487-4A9A320B0C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147-5B00-4F21-A3C0-06C51ABBD7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F83B-E48B-453B-84C6-CE74BFDA58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DF68-B331-4D9A-A7AD-937458B060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E482-CB64-4F7B-849B-503BCB7104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Gene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06B-2CEB-4C70-A3E2-BE7AA612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698-CD75-4E88-A2A8-55653025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346-B9C8-46DF-93A3-0A8E8F8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8BE-A428-40D0-9C54-9466010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743-90AF-4380-B25E-2CAA5E0B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D13-0D2F-4204-ADF4-1866EAE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3C9-7B2C-4B9D-9E6F-CCB4B0B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857-14A6-4F17-B59F-3355840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1C0-113F-4310-BEA1-6682D12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700-908B-4551-9FFC-D3AB0D4D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56B-1F3E-4821-AC69-CA71AA70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AA9-AC74-4AA9-8C68-477F0AF8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-3009600" y="3390840"/>
            <a:ext cx="6477120" cy="457200"/>
          </a:xfrm>
          <a:prstGeom prst="rect">
            <a:avLst/>
          </a:prstGeom>
          <a:gradFill rotWithShape="0">
            <a:gsLst>
              <a:gs pos="0">
                <a:srgbClr val="08479c"/>
              </a:gs>
              <a:gs pos="100000">
                <a:srgbClr val="04214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5" descr="inpe_logo"/>
          <p:cNvPicPr/>
          <p:nvPr/>
        </p:nvPicPr>
        <p:blipFill>
          <a:blip r:embed="rId2"/>
          <a:stretch/>
        </p:blipFill>
        <p:spPr>
          <a:xfrm>
            <a:off x="0" y="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4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pic>
        <p:nvPicPr>
          <p:cNvPr id="54" name="Picture 20" descr="logocomp"/>
          <p:cNvPicPr/>
          <p:nvPr/>
        </p:nvPicPr>
        <p:blipFill>
          <a:blip r:embed="rId2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AE94-BD89-47B0-8834-590AD46E9B6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  <a:ea typeface="Geneva"/>
              </a:rPr>
              <a:t>Sugarscape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Pedro Andr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Geneva"/>
              </a:rPr>
              <a:t>Gilberto Câma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900000" y="1484280"/>
            <a:ext cx="79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sugar between 0 and 4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ell produces one unit of sugar by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gent starts with initial sugar of 10 and needs one sugar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random neighbor and moves whenever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Sugar(“default.sugar”) -- logo package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ttribute “maxSugar”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More complex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11280" y="1341360"/>
            <a:ext cx="8461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ll neighbors and moves to the empty one that has more sugar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wealth (sugar) between 5 and 25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bolism between 1 and 4 sugar per each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 starting with zero and increasing by one per time step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 by age (maximum age between 60 and 100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 by absence of wealth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ever it dies, creates another agent and put it in a random cell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03440" indent="-287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Changes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900000" y="1628640"/>
            <a:ext cx="79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happens with the average wealth and average age when the number of agents grow?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Agent-Based Modelling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61760" y="3016080"/>
            <a:ext cx="6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625320" y="2817720"/>
            <a:ext cx="8518320" cy="3451320"/>
            <a:chOff x="625320" y="2817720"/>
            <a:chExt cx="8518320" cy="3451320"/>
          </a:xfrm>
        </p:grpSpPr>
        <p:grpSp>
          <p:nvGrpSpPr>
            <p:cNvPr id="108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109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11" name="Group 14"/>
            <p:cNvGrpSpPr/>
            <p:nvPr/>
          </p:nvGrpSpPr>
          <p:grpSpPr>
            <a:xfrm>
              <a:off x="1695240" y="5445000"/>
              <a:ext cx="2043000" cy="824040"/>
              <a:chOff x="1695240" y="5445000"/>
              <a:chExt cx="2043000" cy="824040"/>
            </a:xfrm>
          </p:grpSpPr>
          <p:sp>
            <p:nvSpPr>
              <p:cNvPr id="112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1698480" y="5445000"/>
                <a:ext cx="1809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14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115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116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17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118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19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20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121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22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123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24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</p:grpSp>
      <p:grpSp>
        <p:nvGrpSpPr>
          <p:cNvPr id="125" name="Group 28"/>
          <p:cNvGrpSpPr/>
          <p:nvPr/>
        </p:nvGrpSpPr>
        <p:grpSpPr>
          <a:xfrm>
            <a:off x="3962520" y="1341360"/>
            <a:ext cx="3467160" cy="1778040"/>
            <a:chOff x="3962520" y="1341360"/>
            <a:chExt cx="3467160" cy="1778040"/>
          </a:xfrm>
        </p:grpSpPr>
        <p:sp>
          <p:nvSpPr>
            <p:cNvPr id="126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7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128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130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1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132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3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4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135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grpSp>
            <p:nvGrpSpPr>
              <p:cNvPr id="136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137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  <p:sp>
              <p:nvSpPr>
                <p:cNvPr id="138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Humnst777 BT"/>
                  </a:endParaRPr>
                </a:p>
              </p:txBody>
            </p:sp>
          </p:grpSp>
        </p:grpSp>
        <p:grpSp>
          <p:nvGrpSpPr>
            <p:cNvPr id="139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140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1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2" name="Group 45"/>
            <p:cNvGrpSpPr/>
            <p:nvPr/>
          </p:nvGrpSpPr>
          <p:grpSpPr>
            <a:xfrm>
              <a:off x="3962520" y="1341360"/>
              <a:ext cx="1971720" cy="642600"/>
              <a:chOff x="3962520" y="1341360"/>
              <a:chExt cx="1971720" cy="642600"/>
            </a:xfrm>
          </p:grpSpPr>
          <p:sp>
            <p:nvSpPr>
              <p:cNvPr id="143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4" name="Text Box 47"/>
              <p:cNvSpPr/>
              <p:nvPr/>
            </p:nvSpPr>
            <p:spPr>
              <a:xfrm>
                <a:off x="3964680" y="134136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45" name="Group 48"/>
          <p:cNvGrpSpPr/>
          <p:nvPr/>
        </p:nvGrpSpPr>
        <p:grpSpPr>
          <a:xfrm>
            <a:off x="4448160" y="3141720"/>
            <a:ext cx="2187720" cy="642600"/>
            <a:chOff x="4448160" y="3141720"/>
            <a:chExt cx="2187720" cy="642600"/>
          </a:xfrm>
        </p:grpSpPr>
        <p:grpSp>
          <p:nvGrpSpPr>
            <p:cNvPr id="146" name="Group 49"/>
            <p:cNvGrpSpPr/>
            <p:nvPr/>
          </p:nvGrpSpPr>
          <p:grpSpPr>
            <a:xfrm>
              <a:off x="4448160" y="3417480"/>
              <a:ext cx="2181240" cy="285120"/>
              <a:chOff x="4448160" y="3417480"/>
              <a:chExt cx="2181240" cy="285120"/>
            </a:xfrm>
          </p:grpSpPr>
          <p:sp>
            <p:nvSpPr>
              <p:cNvPr id="147" name="Line 50"/>
              <p:cNvSpPr/>
              <p:nvPr/>
            </p:nvSpPr>
            <p:spPr>
              <a:xfrm>
                <a:off x="4448160" y="3417480"/>
                <a:ext cx="1962360" cy="21384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6224760" y="3547440"/>
                <a:ext cx="404640" cy="1551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49" name="Group 52"/>
            <p:cNvGrpSpPr/>
            <p:nvPr/>
          </p:nvGrpSpPr>
          <p:grpSpPr>
            <a:xfrm>
              <a:off x="4727520" y="3141720"/>
              <a:ext cx="1908360" cy="642600"/>
              <a:chOff x="4727520" y="3141720"/>
              <a:chExt cx="1908360" cy="642600"/>
            </a:xfrm>
          </p:grpSpPr>
          <p:sp>
            <p:nvSpPr>
              <p:cNvPr id="150" name="Freeform 53"/>
              <p:cNvSpPr/>
              <p:nvPr/>
            </p:nvSpPr>
            <p:spPr>
              <a:xfrm>
                <a:off x="4727520" y="3171600"/>
                <a:ext cx="1908360" cy="36324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1" name="Text Box 54"/>
              <p:cNvSpPr/>
              <p:nvPr/>
            </p:nvSpPr>
            <p:spPr>
              <a:xfrm>
                <a:off x="4736160" y="314172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2" name="Group 55"/>
          <p:cNvGrpSpPr/>
          <p:nvPr/>
        </p:nvGrpSpPr>
        <p:grpSpPr>
          <a:xfrm>
            <a:off x="4110120" y="4143240"/>
            <a:ext cx="1103760" cy="1042920"/>
            <a:chOff x="4110120" y="4143240"/>
            <a:chExt cx="1103760" cy="1042920"/>
          </a:xfrm>
        </p:grpSpPr>
        <p:grpSp>
          <p:nvGrpSpPr>
            <p:cNvPr id="153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154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5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56" name="Group 59"/>
            <p:cNvGrpSpPr/>
            <p:nvPr/>
          </p:nvGrpSpPr>
          <p:grpSpPr>
            <a:xfrm>
              <a:off x="4282920" y="4292280"/>
              <a:ext cx="930960" cy="642600"/>
              <a:chOff x="4282920" y="4292280"/>
              <a:chExt cx="930960" cy="642600"/>
            </a:xfrm>
          </p:grpSpPr>
          <p:sp>
            <p:nvSpPr>
              <p:cNvPr id="157" name="Freeform 60"/>
              <p:cNvSpPr/>
              <p:nvPr/>
            </p:nvSpPr>
            <p:spPr>
              <a:xfrm>
                <a:off x="4282920" y="435240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58" name="Text Box 61"/>
              <p:cNvSpPr/>
              <p:nvPr/>
            </p:nvSpPr>
            <p:spPr>
              <a:xfrm>
                <a:off x="4408920" y="4292280"/>
                <a:ext cx="80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59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160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161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2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63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164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5" name="Text Box 68"/>
              <p:cNvSpPr/>
              <p:nvPr/>
            </p:nvSpPr>
            <p:spPr>
              <a:xfrm>
                <a:off x="2962800" y="4692240"/>
                <a:ext cx="12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grpSp>
        <p:nvGrpSpPr>
          <p:cNvPr id="166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167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168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69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  <p:grpSp>
          <p:nvGrpSpPr>
            <p:cNvPr id="170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171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  <p:sp>
            <p:nvSpPr>
              <p:cNvPr id="172" name="Text Box 75"/>
              <p:cNvSpPr/>
              <p:nvPr/>
            </p:nvSpPr>
            <p:spPr>
              <a:xfrm>
                <a:off x="4520160" y="386388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Humnst777 BT"/>
                </a:endParaRPr>
              </a:p>
            </p:txBody>
          </p:sp>
        </p:grpSp>
      </p:grpSp>
      <p:sp>
        <p:nvSpPr>
          <p:cNvPr id="173" name="Text Box 13"/>
          <p:cNvSpPr/>
          <p:nvPr/>
        </p:nvSpPr>
        <p:spPr>
          <a:xfrm>
            <a:off x="428760" y="6521400"/>
            <a:ext cx="22860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source: Nigel Gilbert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Calibri"/>
                <a:ea typeface="Geneva"/>
              </a:rPr>
              <a:t>The Sugarscape Mode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200" y="2109600"/>
            <a:ext cx="40388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Geneva"/>
              </a:rPr>
              <a:t>Building artificial societies that model certain characteristics of real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4915080" y="1289160"/>
            <a:ext cx="3765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</a:rPr>
              <a:t>Cells produce sugar: rule G</a:t>
            </a:r>
            <a:r>
              <a:rPr b="1" lang="en-GB" sz="3000" spc="-1" strike="noStrike" baseline="-25000">
                <a:solidFill>
                  <a:srgbClr val="003366"/>
                </a:solidFill>
                <a:latin typeface="Calibri"/>
              </a:rPr>
              <a:t>α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8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ell grows </a:t>
            </a:r>
            <a:r>
              <a:rPr b="1" lang="en-GB" sz="2400" spc="-1" strike="noStrike">
                <a:solidFill>
                  <a:srgbClr val="8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its of sugar by time step up to capacity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Sugarscape: Agents consume sugar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1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"/>
          <p:cNvSpPr/>
          <p:nvPr/>
        </p:nvSpPr>
        <p:spPr>
          <a:xfrm>
            <a:off x="5724360" y="1989000"/>
            <a:ext cx="334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gents look for sugar to eat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gents attributes (age, wealth)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MS PGothic"/>
              </a:rPr>
              <a:t>Sugarscape: Simple agent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4" name="Picture 2" descr="Screen Shot 2013-07-10 at 13.08.20.png"/>
          <p:cNvPicPr/>
          <p:nvPr/>
        </p:nvPicPr>
        <p:blipFill>
          <a:blip r:embed="rId1"/>
          <a:stretch/>
        </p:blipFill>
        <p:spPr>
          <a:xfrm>
            <a:off x="542880" y="1236600"/>
            <a:ext cx="5108760" cy="5072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5724360" y="1989000"/>
            <a:ext cx="33483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 for a random neighbor 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ves there if it has more sugar than the current cell to eat.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s carry food with them 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30240" y="1236600"/>
            <a:ext cx="7182000" cy="4308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1019160" y="5734080"/>
            <a:ext cx="753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3120" indent="-303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ts have an initial quantity of food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 marL="303120" indent="-303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lso carry food that has not been eaten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survival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Agents collect sugar and consume 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When they have no sugar, they die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476360" y="1131840"/>
            <a:ext cx="5715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Calibri"/>
                <a:ea typeface="Geneva"/>
              </a:rPr>
              <a:t>Agent movement rule</a:t>
            </a:r>
            <a:endParaRPr b="1" lang="en-US" sz="3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106640" y="1085760"/>
            <a:ext cx="6449760" cy="4273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1030320" y="5432400"/>
            <a:ext cx="7539120" cy="1325520"/>
          </a:xfrm>
          <a:prstGeom prst="rect">
            <a:avLst/>
          </a:prstGeom>
          <a:solidFill>
            <a:srgbClr val="eb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Look out as far as vision enables – find the closest empty place with the most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600" spc="-1" strike="noStrike">
                <a:solidFill>
                  <a:srgbClr val="00005e"/>
                </a:solidFill>
                <a:latin typeface="Calibri"/>
                <a:ea typeface="Calibri"/>
              </a:rPr>
              <a:t>Move there and get all the sugar</a:t>
            </a:r>
            <a:endParaRPr b="0" lang="en-US" sz="2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38:36Z</dcterms:created>
  <dc:creator>Gilberto</dc:creator>
  <dc:description/>
  <cp:keywords/>
  <dc:language>en-US</dc:language>
  <cp:lastModifiedBy>Pedro R Andrade Nt</cp:lastModifiedBy>
  <dcterms:modified xsi:type="dcterms:W3CDTF">2020-09-04T18:13:13Z</dcterms:modified>
  <cp:revision>27</cp:revision>
  <dc:subject/>
  <dc:title>Building simple models with TerraME</dc:title>
</cp:coreProperties>
</file>